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B782-D6CC-4B6B-AB8A-546B1A1A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flat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58F-375A-45FC-8089-B2CC9E60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C4D-6BCD-44F6-8FDD-0968E6A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B91-12E8-417B-940D-0498BCCB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74E-FBF3-4E00-A50F-528929A0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3CA-C046-41AE-827F-E4842D09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429-B2B3-4014-AF5C-7B7F304C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FDC-5A01-4CE6-ADD5-865AAE9C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3DE-C706-444D-B499-08C2095E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71C-7301-4543-8246-F87F523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CA6-B17B-400E-9761-BF87FEA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A67-35E5-4222-9AC5-82DFDC4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5CE-0785-437D-9D41-184C1B0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F99-8EE3-4106-A9AA-C461BB4D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42560" y="1397520"/>
            <a:ext cx="4954320" cy="5082480"/>
            <a:chOff x="1942560" y="1397520"/>
            <a:chExt cx="4954320" cy="5082480"/>
          </a:xfrm>
        </p:grpSpPr>
        <p:sp>
          <p:nvSpPr>
            <p:cNvPr id="50" name="_s3077"/>
            <p:cNvSpPr/>
            <p:nvPr/>
          </p:nvSpPr>
          <p:spPr>
            <a:xfrm>
              <a:off x="2670120" y="2014920"/>
              <a:ext cx="3499200" cy="38480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78"/>
            <p:cNvSpPr/>
            <p:nvPr/>
          </p:nvSpPr>
          <p:spPr>
            <a:xfrm rot="7200000">
              <a:off x="2495520" y="2189160"/>
              <a:ext cx="3848040" cy="3499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79"/>
            <p:cNvSpPr/>
            <p:nvPr/>
          </p:nvSpPr>
          <p:spPr>
            <a:xfrm rot="14400000">
              <a:off x="2495520" y="2188800"/>
              <a:ext cx="3848040" cy="3499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80"/>
            <p:cNvSpPr/>
            <p:nvPr/>
          </p:nvSpPr>
          <p:spPr>
            <a:xfrm>
              <a:off x="5148360" y="2550960"/>
              <a:ext cx="10666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2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Vision Stat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81"/>
            <p:cNvSpPr/>
            <p:nvPr/>
          </p:nvSpPr>
          <p:spPr>
            <a:xfrm>
              <a:off x="3886200" y="4953600"/>
              <a:ext cx="106704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3. Goals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Action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82"/>
            <p:cNvSpPr/>
            <p:nvPr/>
          </p:nvSpPr>
          <p:spPr>
            <a:xfrm>
              <a:off x="2624400" y="2550960"/>
              <a:ext cx="10666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바탕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Mission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048120" y="1066680"/>
            <a:ext cx="3200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바탕"/>
              </a:rPr>
              <a:t>District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Technology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Technology Missio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520" y="2437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Wh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echnological advances continue to change our landscape so markedly that our original mission needs modification in order to address these new realities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0" y="243792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Explains why we exist as a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hat we hope to achieve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Our essential nature, values, an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Inspires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Invites/supports innovation and c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20874600">
            <a:off x="4800240" y="258984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752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fornian FB"/>
              </a:rPr>
              <a:t>A purpose, or a reason for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-184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4572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ndover Strateg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Missio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86000" y="2354400"/>
            <a:ext cx="4572000" cy="1632240"/>
            <a:chOff x="2286000" y="2354400"/>
            <a:chExt cx="4572000" cy="1632240"/>
          </a:xfrm>
        </p:grpSpPr>
        <p:cxnSp>
          <p:nvCxnSpPr>
            <p:cNvPr id="66" name="_s7173"/>
            <p:cNvCxnSpPr>
              <a:stCxn id="67" idx="0"/>
              <a:endCxn id="68" idx="2"/>
            </p:cNvCxnSpPr>
            <p:nvPr/>
          </p:nvCxnSpPr>
          <p:spPr>
            <a:xfrm flipV="1" rot="16200000">
              <a:off x="5245920" y="2288880"/>
              <a:ext cx="252000" cy="160092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7174"/>
            <p:cNvCxnSpPr>
              <a:stCxn id="70" idx="0"/>
              <a:endCxn id="68" idx="2"/>
            </p:cNvCxnSpPr>
            <p:nvPr/>
          </p:nvCxnSpPr>
          <p:spPr>
            <a:xfrm flipV="1">
              <a:off x="4572000" y="2963520"/>
              <a:ext cx="2160" cy="25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7175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45720" y="2288880"/>
              <a:ext cx="252000" cy="160092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7176"/>
            <p:cNvSpPr/>
            <p:nvPr/>
          </p:nvSpPr>
          <p:spPr>
            <a:xfrm>
              <a:off x="3510000" y="2354400"/>
              <a:ext cx="2124000" cy="60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바탕"/>
                </a:rPr>
                <a:t>Mission Statement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177"/>
            <p:cNvSpPr/>
            <p:nvPr/>
          </p:nvSpPr>
          <p:spPr>
            <a:xfrm>
              <a:off x="2286000" y="3215160"/>
              <a:ext cx="1371600" cy="77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바탕"/>
                </a:rPr>
                <a:t>The purp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178"/>
            <p:cNvSpPr/>
            <p:nvPr/>
          </p:nvSpPr>
          <p:spPr>
            <a:xfrm>
              <a:off x="3886200" y="3215160"/>
              <a:ext cx="1371600" cy="77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바탕"/>
                </a:rPr>
                <a:t>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179"/>
            <p:cNvSpPr/>
            <p:nvPr/>
          </p:nvSpPr>
          <p:spPr>
            <a:xfrm>
              <a:off x="5486400" y="3215160"/>
              <a:ext cx="1371600" cy="77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바탕"/>
                </a:rPr>
                <a:t>The val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바탕"/>
              </a:rPr>
              <a:t>Technology Mission</a:t>
            </a:r>
            <a:br>
              <a:rPr sz="3600"/>
            </a:br>
            <a:r>
              <a:rPr b="0" lang="en-US" sz="2000" spc="-1" strike="noStrike">
                <a:solidFill>
                  <a:srgbClr val="ff3300"/>
                </a:solidFill>
                <a:latin typeface="바탕"/>
              </a:rPr>
              <a:t>(just an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e Technology Department is committed to providing globally responsive and supportive tools supporting curriculum, to all students in a safe, stimulating, and motivating environment; and is dedicated to helping students become lifelong learners and responsible, productive members of a rapidly changing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바탕"/>
              </a:rPr>
              <a:t>Dissecting Our Mission Statem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providing globally responsive and supportive tools support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Bus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elping students become life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esponsible, productive members of a rapidly changing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Vision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Beliefs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based on the purpose in your mission statement, which will be further delineated by your organizational goals/a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pecific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isible declaration of your expect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Precise/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Guide the actions of all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Visio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19360" y="1774800"/>
            <a:ext cx="5705280" cy="3342960"/>
            <a:chOff x="1719360" y="1774800"/>
            <a:chExt cx="5705280" cy="3342960"/>
          </a:xfrm>
        </p:grpSpPr>
        <p:sp>
          <p:nvSpPr>
            <p:cNvPr id="81" name="_s11269"/>
            <p:cNvSpPr/>
            <p:nvPr/>
          </p:nvSpPr>
          <p:spPr>
            <a:xfrm>
              <a:off x="3800520" y="2368080"/>
              <a:ext cx="1542960" cy="16970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1270"/>
            <p:cNvSpPr/>
            <p:nvPr/>
          </p:nvSpPr>
          <p:spPr>
            <a:xfrm>
              <a:off x="3800520" y="1774800"/>
              <a:ext cx="1542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Direc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of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identified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1271"/>
            <p:cNvSpPr/>
            <p:nvPr/>
          </p:nvSpPr>
          <p:spPr>
            <a:xfrm>
              <a:off x="4308480" y="3337200"/>
              <a:ext cx="1542960" cy="16974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1272"/>
            <p:cNvSpPr/>
            <p:nvPr/>
          </p:nvSpPr>
          <p:spPr>
            <a:xfrm>
              <a:off x="5881680" y="4694040"/>
              <a:ext cx="1542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Desired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outc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1273"/>
            <p:cNvSpPr/>
            <p:nvPr/>
          </p:nvSpPr>
          <p:spPr>
            <a:xfrm>
              <a:off x="3290760" y="3335400"/>
              <a:ext cx="1543320" cy="169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1274"/>
            <p:cNvSpPr/>
            <p:nvPr/>
          </p:nvSpPr>
          <p:spPr>
            <a:xfrm>
              <a:off x="1719360" y="4694040"/>
              <a:ext cx="1542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How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to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accomplish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it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바탕"/>
              </a:rPr>
              <a:t>Vision Kil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ar of ridi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ereotypes of people, conditions, and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placency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atigu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hort-term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ysay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11:38Z</dcterms:created>
  <dc:creator>APS</dc:creator>
  <dc:description/>
  <dc:language>en-US</dc:language>
  <cp:lastModifiedBy>APS</cp:lastModifiedBy>
  <dcterms:modified xsi:type="dcterms:W3CDTF">2009-12-23T17:21:39Z</dcterms:modified>
  <cp:revision>15</cp:revision>
  <dc:subject/>
  <dc:title>Strategic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5229639</vt:r8>
  </property>
  <property fmtid="{D5CDD505-2E9C-101B-9397-08002B2CF9AE}" pid="3" name="_AuthorEmail">
    <vt:lpwstr>TMcGuinnessDarby@aps1.net</vt:lpwstr>
  </property>
  <property fmtid="{D5CDD505-2E9C-101B-9397-08002B2CF9AE}" pid="4" name="_AuthorEmailDisplayName">
    <vt:lpwstr>McGuinnessDarby, Theresa</vt:lpwstr>
  </property>
  <property fmtid="{D5CDD505-2E9C-101B-9397-08002B2CF9AE}" pid="5" name="_EmailSubject">
    <vt:lpwstr>Technology Pinpoint Committee</vt:lpwstr>
  </property>
  <property fmtid="{D5CDD505-2E9C-101B-9397-08002B2CF9AE}" pid="6" name="_ReviewingToolsShownOnce">
    <vt:lpwstr/>
  </property>
</Properties>
</file>